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373-278F-40FF-B5CE-656C97A3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0B9-98BA-4BF5-9F5E-D0F09CED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A80-048F-4EC9-9F46-C63B0BC4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489-36C9-4F45-97DC-CEAC475B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56A1-65AF-4D68-AB72-1BDA29C6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537C-7C37-4115-A1BF-BB121D8A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72C8-8FDE-4383-8DD3-A0CE1278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0032-44CF-4B44-9E92-4F7ECEA3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4D13-6DBE-47C3-B7D3-754D1DB7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C1E4-2EE0-4553-88F2-1953EF77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3A51-0C8D-4F9B-B421-B209EF40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217-1663-4E03-81C3-E7677034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07D9-0EBD-4BE9-9C79-4F9B7A92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AA08-30B6-41FD-8CCA-F8A1E8EA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7BCF-AA00-4598-BCC5-30286A89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9E2D-0D2A-49DB-9460-8E2A3571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F9A4-FABF-4091-9676-375FAB4D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9F6-CC2E-488C-B4FC-4BF02A4E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951-FE02-4FC7-881A-6C410CEA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FEF-C076-4335-BB50-3D5EA8F5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48A-B7C5-4430-B568-A65170A5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36E-03EA-4EB4-BD91-87F7BDD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D65-180C-41D3-A12E-4D285849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B70-A00A-450F-86D3-D6D8D600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B2E5-F403-488E-A68B-311A09CE14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316-E93B-4451-999F-3E09E90B42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wallpampers.ru/pictures/1672/1440_globe.jpg" TargetMode="External"/><Relationship Id="rId3" Type="http://schemas.openxmlformats.org/officeDocument/2006/relationships/hyperlink" Target="http://files.vector-images.com/clipart/schoolsupplies_gk2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3857400"/>
            <a:ext cx="4071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2428920"/>
            <a:ext cx="6686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wallpampers.ru/pictures/1672/1440_globe.jpg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2.gif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8" name="Picture 2" descr="d:\Мои документы\Мои рисунки\schoolsupplies_gk2.gif"/>
          <p:cNvPicPr/>
          <p:nvPr/>
        </p:nvPicPr>
        <p:blipFill>
          <a:blip r:embed="rId4"/>
          <a:stretch/>
        </p:blipFill>
        <p:spPr>
          <a:xfrm>
            <a:off x="428760" y="3571920"/>
            <a:ext cx="106992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1440_globe.jpg"/>
          <p:cNvPicPr/>
          <p:nvPr/>
        </p:nvPicPr>
        <p:blipFill>
          <a:blip r:embed="rId5"/>
          <a:stretch/>
        </p:blipFill>
        <p:spPr>
          <a:xfrm>
            <a:off x="428760" y="2500200"/>
            <a:ext cx="1385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7:09:33Z</dcterms:created>
  <dc:creator>Comp</dc:creator>
  <dc:description/>
  <dc:language>en-US</dc:language>
  <cp:lastModifiedBy>Comp</cp:lastModifiedBy>
  <dcterms:modified xsi:type="dcterms:W3CDTF">2011-07-31T17:14:32Z</dcterms:modified>
  <cp:revision>2</cp:revision>
  <dc:subject/>
  <dc:title>Слайд 1</dc:title>
</cp:coreProperties>
</file>